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AD7-D1AD-425D-96E2-1873AB042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ual picture: Livelihood story provides added value to all other information being brought to the forum (Analytical 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ve scenarios can be run using FEG spreadsheets etc……..avoiding….. HINDCAST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DB6-DDDF-4D64-A6B9-AB10193E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41D-C6C4-4F61-8E66-460A18B2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B84-CDFC-4736-9A87-52348137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8C6-ED7A-445E-9A54-8FBDD8A1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C98-2E06-4222-8A62-7D08AA9D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6C4-AB02-4AC0-81B8-D2148B8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3DA-2533-41DC-8064-17597763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22E-B2F4-4907-995E-0F1CB6B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0FE-FC86-47B0-AC56-C492EA8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620-940B-48EF-A55A-0924E3C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4B0-C545-4667-BD56-D3EE314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DC0-511E-4B12-9291-6679D74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307-BD58-40A0-AAE6-BD3CBC84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ental seminar on food security - Africa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45 session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2007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le of information in improving responses to food insecu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lid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Sharp SC-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880" y="-3665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asset loss and recovery  (H, S, N, F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8080" y="990720"/>
            <a:ext cx="7467480" cy="4723920"/>
            <a:chOff x="838080" y="990720"/>
            <a:chExt cx="7467480" cy="4723920"/>
          </a:xfrm>
        </p:grpSpPr>
        <p:grpSp>
          <p:nvGrpSpPr>
            <p:cNvPr id="52" name=""/>
            <p:cNvGrpSpPr/>
            <p:nvPr/>
          </p:nvGrpSpPr>
          <p:grpSpPr>
            <a:xfrm>
              <a:off x="2524320" y="1316160"/>
              <a:ext cx="4095000" cy="3909240"/>
              <a:chOff x="2524320" y="1316160"/>
              <a:chExt cx="4095000" cy="3909240"/>
            </a:xfrm>
          </p:grpSpPr>
          <p:sp>
            <p:nvSpPr>
              <p:cNvPr id="53" name=""/>
              <p:cNvSpPr/>
              <p:nvPr/>
            </p:nvSpPr>
            <p:spPr>
              <a:xfrm>
                <a:off x="4572000" y="3270960"/>
                <a:ext cx="204732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flipV="1">
                <a:off x="2524320" y="1315800"/>
                <a:ext cx="2047680" cy="195444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608280" y="2457000"/>
              <a:ext cx="156600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78480" y="3271320"/>
              <a:ext cx="156564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99072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7640" y="4900320"/>
              <a:ext cx="216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39920" y="5063040"/>
              <a:ext cx="1565640" cy="65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434400"/>
              <a:ext cx="602280" cy="228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7692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5943600"/>
            <a:ext cx="2971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2680" y="5979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6324480"/>
            <a:ext cx="27432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79132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1160" y="5904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s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3520" y="6248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720" y="6248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38080" y="228600"/>
          <a:ext cx="8305920" cy="679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010280" y="1676520"/>
            <a:ext cx="152424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3048120"/>
            <a:ext cx="1447920" cy="9144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1760" y="2057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5080" y="34290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ef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320" y="26668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ST C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28600" y="457200"/>
            <a:ext cx="8915040" cy="6400800"/>
            <a:chOff x="228600" y="457200"/>
            <a:chExt cx="8915040" cy="6400800"/>
          </a:xfrm>
        </p:grpSpPr>
        <p:sp>
          <p:nvSpPr>
            <p:cNvPr id="79" name=""/>
            <p:cNvSpPr/>
            <p:nvPr/>
          </p:nvSpPr>
          <p:spPr>
            <a:xfrm>
              <a:off x="228600" y="589392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at Gov &amp; LGA s               &lt;NGOs&gt;                            Donors and LRRD                &lt;NGOs&gt;                    WFP, ICRC, M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00" y="457200"/>
              <a:ext cx="8799840" cy="320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Vulner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800" y="77724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Moderate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High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Extre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00" y="1097280"/>
              <a:ext cx="8799840" cy="320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usehold Decision-Mak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3800" y="1417680"/>
              <a:ext cx="879984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aximizing Opportunitie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   Minimizing Ris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4296240"/>
              <a:ext cx="8800200" cy="32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nor 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" y="4616640"/>
              <a:ext cx="88002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habilitation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Mitigatio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4936680"/>
              <a:ext cx="8800200" cy="320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je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25708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ustainable System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Protect Livelihood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ave L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5577120"/>
              <a:ext cx="8800200" cy="320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6217560"/>
              <a:ext cx="8800200" cy="32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dience Involv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6537960"/>
              <a:ext cx="88002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Broader analysis with user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…..High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    … Lower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Quantifying and Targeting Reli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920" y="1752480"/>
            <a:ext cx="8533800" cy="2514600"/>
            <a:chOff x="304920" y="1752480"/>
            <a:chExt cx="8533800" cy="2514600"/>
          </a:xfrm>
        </p:grpSpPr>
        <p:grpSp>
          <p:nvGrpSpPr>
            <p:cNvPr id="92" name=""/>
            <p:cNvGrpSpPr/>
            <p:nvPr/>
          </p:nvGrpSpPr>
          <p:grpSpPr>
            <a:xfrm>
              <a:off x="2231640" y="1926000"/>
              <a:ext cx="4679640" cy="2080800"/>
              <a:chOff x="2231640" y="1926000"/>
              <a:chExt cx="4679640" cy="2080800"/>
            </a:xfrm>
          </p:grpSpPr>
          <p:sp>
            <p:nvSpPr>
              <p:cNvPr id="93" name=""/>
              <p:cNvSpPr/>
              <p:nvPr/>
            </p:nvSpPr>
            <p:spPr>
              <a:xfrm>
                <a:off x="4571640" y="2966400"/>
                <a:ext cx="233964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2231640" y="1926000"/>
                <a:ext cx="2340000" cy="1040400"/>
              </a:xfrm>
              <a:custGeom>
                <a:avLst/>
                <a:gdLst/>
                <a:ahLst/>
                <a:rect l="l" t="t" r="r" b="b"/>
                <a:pathLst>
                  <a:path w="1440" h="1440">
                    <a:moveTo>
                      <a:pt x="0" y="0"/>
                    </a:moveTo>
                    <a:cubicBezTo>
                      <a:pt x="310" y="40"/>
                      <a:pt x="620" y="80"/>
                      <a:pt x="840" y="240"/>
                    </a:cubicBezTo>
                    <a:cubicBezTo>
                      <a:pt x="1060" y="400"/>
                      <a:pt x="1220" y="760"/>
                      <a:pt x="1320" y="960"/>
                    </a:cubicBezTo>
                    <a:cubicBezTo>
                      <a:pt x="1420" y="1160"/>
                      <a:pt x="1420" y="1360"/>
                      <a:pt x="1440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470400" y="2532960"/>
              <a:ext cx="178956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36600" y="296640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75248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61200" y="3833640"/>
              <a:ext cx="24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49520" y="3920040"/>
              <a:ext cx="1789200" cy="34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e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0" y="3053160"/>
              <a:ext cx="687960" cy="121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</a:rPr>
                <a:t>Reversibility  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ff3300"/>
                  </a:solidFill>
                  <a:latin typeface="Arial"/>
                </a:rPr>
                <a:t>Pha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3300"/>
                  </a:solidFill>
                  <a:latin typeface="Arial"/>
                </a:rPr>
                <a:t>1 or 2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 flipV="1">
            <a:off x="2209680" y="17521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809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7800" y="2743200"/>
            <a:ext cx="2595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N.B. See No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ivelihood 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7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ntextual picture…improving/worsen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role of the Fo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0"/>
            <a:ext cx="8001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ole of information in improving responses to food 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504960" y="6400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6400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440" y="3505320"/>
            <a:ext cx="331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Phases    …. 3 ,            ……..  4,      ………………   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10480" y="373392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3886200"/>
            <a:ext cx="42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PC Strategic response strategies only…. pos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80920" y="205740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860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19160" y="20908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hich…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9880" y="20145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.Way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1280" y="391968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ias?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195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1000" y="6324480"/>
            <a:ext cx="290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 Southern Su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55840" y="6324480"/>
            <a:ext cx="2235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nd 2 for Malaw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943600"/>
            <a:ext cx="2743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Phase    classifi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2800" y="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ed for the Livelihood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.Contextual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84360" y="3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37000" y="49356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PC princi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9440" y="5335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A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83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CCSE/L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649116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AL: Timely, cost effective and appropriate a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152280"/>
            <a:ext cx="26668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va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2360" y="27255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1 and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5120" y="1611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classificat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1480" y="2666880"/>
            <a:ext cx="236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, water …see IPC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7280" y="472428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he need for the contex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72400" y="33526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81680" y="5334120"/>
            <a:ext cx="9144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59040" y="548640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…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d predi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4267080"/>
            <a:ext cx="27432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IPC&lt; &gt;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Compli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Comic Sans MS"/>
              </a:rPr>
              <a:t>principles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that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better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during analy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uda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tle evidence that the present response is linked to analysis of any livelihoods infor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ee driven response….as opposed to CDR/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im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media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access emergency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for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9:24:47Z</dcterms:created>
  <dc:creator>bsharp</dc:creator>
  <dc:description/>
  <dc:language>en-US</dc:language>
  <cp:lastModifiedBy>user</cp:lastModifiedBy>
  <dcterms:modified xsi:type="dcterms:W3CDTF">2007-03-15T15:36:08Z</dcterms:modified>
  <cp:revision>38</cp:revision>
  <dc:subject/>
  <dc:title>Slide 1</dc:title>
</cp:coreProperties>
</file>